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1FF-68A1-4753-AFBA-144BD16A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764-B190-41F9-BECE-B4F0108A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949-7D17-4531-ACEB-C362D4F9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45F-C1E8-477E-9575-93FE3588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DCAD-3AF3-45F0-B5CB-FF914109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0AE9-50B2-4A84-8CBB-B85F8470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27A6-61BF-4EBC-86F3-64602612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A914-F818-40DA-8CF5-478517C4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C327-EC82-4724-BDFB-9F4AC313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B4BC-97F2-4280-9092-67DBF435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5759-BEA1-45E0-8A51-E5F0C842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8BB-9182-4BB0-910B-386A3D99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AB05-FCF7-4E5B-AB0D-F26E8A0B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EF0A-CBDC-4D5D-B9DF-987E3AD8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BCF8-79D1-4B79-9C64-FA30F949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43DC-DB0A-46D1-9E2B-42D9F265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0356-E7BF-4C13-B42F-5538B5DC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FFE-281C-46DE-9AB3-F8FC3336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FCA-9F4D-4EA7-B123-BFE52FE8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F61-B316-4E5F-ADB2-28974E20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2AB-46C0-456F-86DA-187C4224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449-1A28-431F-B24A-5CE2D619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8A6-6B70-462B-959C-C8E0D61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4E4-CF38-43A0-B4FC-24B2CA7A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933D-6B77-4F4E-8F4A-25DB819AD8C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2C0C-3811-4C96-9053-3EB6771B7C0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ru.wikipedia.org/wiki/&#1060;&#1072;&#1081;&#1083;:Egypt.Giza.Menkaure.01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0;&#1088;&#1093;&#1080;&#1090;&#1077;&#1082;&#1090;&#1091;&#1088;&#1072;" TargetMode="External"/><Relationship Id="rId3" Type="http://schemas.openxmlformats.org/officeDocument/2006/relationships/hyperlink" Target="http://ru.wikipedia.org/wiki/&#1044;&#1088;&#1077;&#1074;&#1085;&#1080;&#1081;_&#1045;&#1075;&#1080;&#1087;&#1077;&#1090;" TargetMode="External"/><Relationship Id="rId4" Type="http://schemas.openxmlformats.org/officeDocument/2006/relationships/hyperlink" Target="http://ru.wikipedia.org/wiki/&#1057;&#1077;&#1084;&#1100;_&#1095;&#1091;&#1076;&#1077;&#1089;_&#1089;&#1074;&#1077;&#1090;&#1072;" TargetMode="External"/><Relationship Id="rId5" Type="http://schemas.openxmlformats.org/officeDocument/2006/relationships/hyperlink" Target="http://ru.wikipedia.org/wiki/&#1055;&#1080;&#1088;&#1072;&#1084;&#1080;&#1076;&#1072;_&#1061;&#1077;&#1086;&#1087;&#1089;&#1072;" TargetMode="External"/><Relationship Id="rId6" Type="http://schemas.openxmlformats.org/officeDocument/2006/relationships/hyperlink" Target="http://ru.wikipedia.org/wiki/&#1060;&#1072;&#1088;&#1072;&#1086;&#1085;_(&#1090;&#1080;&#1090;&#1091;&#1083;)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upload.wikimedia.org/wikipedia/commons/4/46/Egypt.Saqqara.DjosersPyramid.0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60;&#1072;&#1081;&#1083;:Kheops-Pyramid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1/Kheops-coupe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Concavit&#233;-kheops-photo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ru.wikipedia.org/wiki/&#1060;&#1072;&#1081;&#1083;:PyramidDatePalms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ru.wikipedia.org/wiki/&#1060;&#1072;&#1081;&#1083;:&#1041;&#1086;&#1083;&#1100;&#1096;&#1072;&#1103;_&#1082;&#1086;&#1096;&#1082;&#1072;_&#1080;&#1079;_&#1043;&#1080;&#1079;&#1099;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Egypt.Giza.Sphinx.0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tstour.ru/egypt/egyptg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93560" y="1200240"/>
            <a:ext cx="8242560" cy="2401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57200" y="57150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и: ученики 11 клас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28240" cy="1432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85840" y="1285920"/>
            <a:ext cx="5214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d0d0d"/>
                </a:solidFill>
                <a:latin typeface="Times New Roman"/>
              </a:rPr>
              <a:t>Пирамида Хефрена </a:t>
            </a:r>
            <a:r>
              <a:rPr b="0" lang="ru-RU" sz="2600" spc="-1" strike="noStrike">
                <a:solidFill>
                  <a:srgbClr val="0d0d0d"/>
                </a:solidFill>
                <a:latin typeface="Times New Roman"/>
              </a:rPr>
              <a:t> — вторая по величине древнеегипетская пирамида. Построена в сер. XXVI в. до н. э. (215,3 × 215,3 м и высота 143,5 м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http://upload.wikimedia.org/wikipedia/commons/thumb/c/c1/Egypt.Giza.Menkaure.01.jpg/250px-Egypt.Giza.Menkaure.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3500280"/>
            <a:ext cx="2857320" cy="317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upload.wikimedia.org/wikipedia/commons/thumb/b/bf/Khephren-description-egypte.jpg/300px-Khephren-description-egypte.jpg"/>
          <p:cNvPicPr/>
          <p:nvPr/>
        </p:nvPicPr>
        <p:blipFill>
          <a:blip r:embed="rId4"/>
          <a:stretch/>
        </p:blipFill>
        <p:spPr>
          <a:xfrm>
            <a:off x="5643720" y="128592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5"/>
          <p:cNvSpPr/>
          <p:nvPr/>
        </p:nvSpPr>
        <p:spPr>
          <a:xfrm>
            <a:off x="4071960" y="3714840"/>
            <a:ext cx="478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Пирамида Микерина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 — самая южная, поздняя и низкая из трёх египетских пирамид в Гизе. Вопреки прозвищу «Херу» (высокая), она едва достигает 66 м в высоту, а длина стороны её основания составляет 108,4 м. Её объём в 260 000 м³ составляет только десятую часть объема пирамиды Хефрена это был конец эпохи больших пирами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57120" y="142848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рамида Хеопс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V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настия) : 230 м (146,6 м) 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рамида Хефрен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V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настия) : 215 м (143 м) 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рамида Джосер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настия) : 121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x 109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 (62 м) 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214200" y="49291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зовая пирамида, Снофру (IV династия) : 219 м (105 м)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3357720" y="364320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оманая пирамида, Снофру  (IV династия) : 189 м (105 м)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6215040" y="485784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рамида в Мейдуме, Снофру (IV династия) : 144 м (94 м)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Розовая пирамида в Дахшуре"/>
          <p:cNvPicPr/>
          <p:nvPr/>
        </p:nvPicPr>
        <p:blipFill>
          <a:blip r:embed="rId2"/>
          <a:stretch/>
        </p:blipFill>
        <p:spPr>
          <a:xfrm>
            <a:off x="214200" y="25718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Ломаная пирамида в Дахшуре"/>
          <p:cNvPicPr/>
          <p:nvPr/>
        </p:nvPicPr>
        <p:blipFill>
          <a:blip r:embed="rId3"/>
          <a:stretch/>
        </p:blipFill>
        <p:spPr>
          <a:xfrm>
            <a:off x="6286680" y="25718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Мейдумская пирамида"/>
          <p:cNvPicPr/>
          <p:nvPr/>
        </p:nvPicPr>
        <p:blipFill>
          <a:blip r:embed="rId4"/>
          <a:stretch/>
        </p:blipFill>
        <p:spPr>
          <a:xfrm>
            <a:off x="3286080" y="4572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я над этой темой мы узнали много нового об истории возникновения пирамид. Выяснили для кого были построены первые пирамиды. Установили места расположения древних гробниц. Определили какие пирамиды называют  великими и узнали какая пирамида является самой высокой. А ещё мы выяснили, кто такой Сфинкс и для чего его построили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28400" y="1285920"/>
            <a:ext cx="825804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Величайшие </a:t>
            </a:r>
            <a:r>
              <a:rPr b="0" lang="ru-RU" sz="26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архитектурные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 памятники </a:t>
            </a:r>
            <a:r>
              <a:rPr b="0" lang="ru-RU" sz="26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Древнего Египта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, среди которых одно из </a:t>
            </a:r>
            <a:r>
              <a:rPr b="0" lang="ru-RU" sz="26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«семи чудес света»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 — </a:t>
            </a:r>
            <a:r>
              <a:rPr b="0" lang="ru-RU" sz="26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пирамида Хеопса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. Пирамиды представляют собой огромные каменные сооружения пирамидальной формы, использовавшиеся в качестве гробниц для </a:t>
            </a:r>
            <a:r>
              <a:rPr b="0" lang="ru-RU" sz="26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фараонов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Древнего Египта. Слово «пирамида» — греческое. По мнению одних исследователей, большая куча пшеницы и стала прообразом пирамиды. По мнению других учёных, это слово произошло от названия поминального пирога пирамидальной формы. Всего в Египте было обнаружено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</a:rPr>
              <a:t>118 пирамид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7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14200" y="1357200"/>
            <a:ext cx="45720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первая пирамида ступенчатого типа. Постройка датируется приблизитель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67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дом до нашей эры. Пирамида Джосера расположена в Саккаре, к северо-востоку от древнего Мемфиса, в 15 км от Гизы. Её высота составля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2 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Файл:Egypt.Saqqara.DjosersPyramid.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4920" y="1357200"/>
            <a:ext cx="4298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57120" y="1285560"/>
            <a:ext cx="8429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еликими пирамидами называют расположенные в Гизе пирамиды фараон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еопс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ефрен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икерин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 Эти пирамиды имеют не ступенчатую, а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строго геометрическую, пирамидальную форму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 Эти пирамиды относятся к периоду IV династии. Стены пирамид поднимаются под углом от 51° (пирамида Менкаура) до 53° (пирамида Хефрена) к горизонту. Этот угол воплощает в пирамиде математическое значение числа «π». Грани точно ориентированы по сторонам све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7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13840" y="1213920"/>
            <a:ext cx="428652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d0d0d"/>
                </a:solidFill>
                <a:latin typeface="Times New Roman"/>
              </a:rPr>
              <a:t>Пирамида называется </a:t>
            </a:r>
            <a:r>
              <a:rPr b="0" i="1" lang="ru-RU" sz="2600" spc="-1" strike="noStrike">
                <a:solidFill>
                  <a:srgbClr val="0d0d0d"/>
                </a:solidFill>
                <a:latin typeface="Times New Roman"/>
              </a:rPr>
              <a:t>«Ахет - Хуфу» — «Возрождение Хуфу (Хеопса)».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d0d0d"/>
                </a:solidFill>
                <a:latin typeface="Times New Roman"/>
              </a:rPr>
              <a:t>Построена на массивном природном скальном возвышении. Является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Times New Roman"/>
              </a:rPr>
              <a:t>самой высокой и самой объемной из всех египетских пирамид. Её высота к настоящее время достигает 138,8 м. Длина стороны пирамиды — 230 м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Пирамида Хеопс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285920"/>
            <a:ext cx="46432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4"/>
          <p:cNvSpPr/>
          <p:nvPr/>
        </p:nvSpPr>
        <p:spPr>
          <a:xfrm>
            <a:off x="500040" y="42876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стройку пирамиды датируют XXVI веком до н. э. Предположительно, строительство длилось более 20 лет. Пирамида сложена из 2,3 миллионов каменных блоков. На строительстве пирамиды были заняты 100 000 раб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4" descr="Файл:Kheops-coup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4880" y="3071880"/>
            <a:ext cx="4714920" cy="357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upload.wikimedia.org/wikipedia/commons/thumb/b/b8/Concavit%C3%A9-kheops-photo.jpg/180px-Concavit%C3%A9-kheops-phot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285840"/>
            <a:ext cx="2571840" cy="25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upload.wikimedia.org/wikipedia/commons/thumb/f/f4/PyramidDatePalms.jpg/220px-PyramidDatePalm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40" y="3571920"/>
            <a:ext cx="3290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00760" y="1357200"/>
            <a:ext cx="38289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ен на западном берегу Нила в Гизе. Статуя Сфинкса повёрнута лицом к Нилу и восходящему солнцу. Сам древний хранитель пирамид - Большой Сфинкс  устремил свой взгляд на вост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http://upload.wikimedia.org/wikipedia/ru/thumb/7/71/%D0%91%D0%BE%D0%BB%D1%8C%D1%88%D0%B0%D1%8F_%D0%BA%D0%BE%D1%88%D0%BA%D0%B0_%D0%B8%D0%B7_%D0%93%D0%B8%D0%B7%D1%8B.jpg/380px-%D0%91%D0%BE%D0%BB%D1%8C%D1%88%D0%B0%D1%8F_%D0%BA%D0%BE%D1%88%D0%BA%D0%B0_%D0%B8%D0%B7_%D0%93%D0%B8%D0%B7%D1%8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1857240"/>
            <a:ext cx="50482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3840" y="214200"/>
            <a:ext cx="507204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инк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тдыхающий лев с головой человека (мамлюкские солдаты отстрелили ему нос), представляет собой самую большую монолитную скульптуру. Его длина - 73 метра, высота - 20 метров. Считается, что сфинкс был вырублен во время строительства пирамиды Хефрена, а его лицо носит черты этого фарао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http://upload.wikimedia.org/wikipedia/commons/thumb/6/6c/Egypt.Giza.Sphinx.02.jpg/310px-Egypt.Giza.Sphinx.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3680" y="1500120"/>
            <a:ext cx="38019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760" y="357120"/>
            <a:ext cx="804384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ти все древневосточные цивилизации видели во льве символ солнечного божества. С древнейших времён фараона было принято изображать в виде льва, истребляющего своих врагов. В свете этих данных позволительно считать Сфинкса стражником вечного покоя погребённых вокруг него фарао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Картинка 1 из 658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3357720"/>
            <a:ext cx="52149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4:39:42Z</dcterms:created>
  <dc:creator>Admin</dc:creator>
  <dc:description/>
  <dc:language>en-US</dc:language>
  <cp:lastModifiedBy>Admin</cp:lastModifiedBy>
  <dcterms:modified xsi:type="dcterms:W3CDTF">2010-05-05T18:31:00Z</dcterms:modified>
  <cp:revision>21</cp:revision>
  <dc:subject/>
  <dc:title>Почему Сфинкс охраняет пирамиду хеопса</dc:title>
</cp:coreProperties>
</file>